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982-069D-4716-A3E1-2FAAEBEB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75B-F13C-4B0D-90DE-8195136D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40B-666D-4A6E-9A77-6E812FD0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A00-57E4-48E4-A3BD-4147BC45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D7E8-1157-4CF8-A405-1CADCE48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2DFE-4BFC-49DC-838D-C59E0B95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0998-7CF9-43AC-9425-7BAC867A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24D2-94D0-46F8-90D5-38168866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6B96-140D-48D4-8A77-22F1FDA0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CF9F-2A21-476B-8EE0-91C5B807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C282-DD51-4D63-AE73-08731397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4A5-5965-435A-98F2-71DAA098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63AB-5035-4393-93E7-259B62F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A685-A886-49A5-9B71-2FAD1B8B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7321-2428-49B4-98C2-E1ED660F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859D-8176-4E26-84E1-456BA804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1BC9-E926-4B4E-893F-4F969096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15F-76EB-4CC3-826D-9FC3B1A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C24-63CF-4C83-994D-0CAF2211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869-586E-41B6-AA7E-C34989E7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C37-7853-4581-A807-3A6BA8D3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F6C-EF63-482E-BC41-0AF4BB23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12C-A509-4CAD-859F-32CB564E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774-8B81-478D-871C-9E97A4BA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FEA3-2255-4885-B37C-6F8A0F2C06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76D2-BA70-4A11-8DCD-9C7DB797BE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619280" y="26028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КС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57440" cy="1380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00360" y="907920"/>
            <a:ext cx="144360" cy="792360"/>
          </a:xfrm>
          <a:prstGeom prst="downArrow">
            <a:avLst>
              <a:gd name="adj1" fmla="val 50000"/>
              <a:gd name="adj2" fmla="val 13721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981000"/>
            <a:ext cx="144720" cy="1295640"/>
          </a:xfrm>
          <a:prstGeom prst="downArrow">
            <a:avLst>
              <a:gd name="adj1" fmla="val 50000"/>
              <a:gd name="adj2" fmla="val 22381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2852640"/>
            <a:ext cx="144360" cy="2160720"/>
          </a:xfrm>
          <a:prstGeom prst="downArrow">
            <a:avLst>
              <a:gd name="adj1" fmla="val 50000"/>
              <a:gd name="adj2" fmla="val 37419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221000"/>
            <a:ext cx="144360" cy="400320"/>
          </a:xfrm>
          <a:prstGeom prst="downArrow">
            <a:avLst>
              <a:gd name="adj1" fmla="val 50000"/>
              <a:gd name="adj2" fmla="val 6932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589720"/>
            <a:ext cx="144720" cy="399960"/>
          </a:xfrm>
          <a:prstGeom prst="downArrow">
            <a:avLst>
              <a:gd name="adj1" fmla="val 50000"/>
              <a:gd name="adj2" fmla="val 6909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2852640"/>
            <a:ext cx="142920" cy="1008000"/>
          </a:xfrm>
          <a:prstGeom prst="downArrow">
            <a:avLst>
              <a:gd name="adj1" fmla="val 50000"/>
              <a:gd name="adj2" fmla="val 17632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2852640"/>
            <a:ext cx="142920" cy="1513080"/>
          </a:xfrm>
          <a:prstGeom prst="downArrow">
            <a:avLst>
              <a:gd name="adj1" fmla="val 50000"/>
              <a:gd name="adj2" fmla="val 26467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773360"/>
            <a:ext cx="482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ff"/>
                  </a:solidFill>
                  <a:custDash>
                    <a:ds d="100000" sp="1000"/>
                  </a:custDash>
                  <a:miter/>
                </a:ln>
                <a:solidFill>
                  <a:srgbClr val="336699"/>
                </a:solidFill>
                <a:latin typeface="Arial"/>
              </a:rPr>
              <a:t>ОБЩЕУПОТРЕБИТЕЛЬНАЯ</a:t>
            </a:r>
            <a:endParaRPr b="0" lang="en-US" sz="1800" spc="1" strike="noStrike">
              <a:ln cap="rnd" w="9360">
                <a:solidFill>
                  <a:srgbClr val="0000ff"/>
                </a:solidFill>
                <a:custDash>
                  <a:ds d="100000" sp="1000"/>
                </a:custDash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11280" y="2421000"/>
            <a:ext cx="554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ff"/>
                  </a:solidFill>
                  <a:custDash>
                    <a:ds d="100000" sp="1000"/>
                  </a:custDash>
                  <a:miter/>
                </a:ln>
                <a:solidFill>
                  <a:srgbClr val="336699"/>
                </a:solidFill>
                <a:latin typeface="Arial"/>
              </a:rPr>
              <a:t>НЕОБЩЕУПОТРЕБИТЕЛЬНАЯ</a:t>
            </a:r>
            <a:endParaRPr b="0" lang="en-US" sz="1800" spc="1" strike="noStrike">
              <a:ln cap="rnd" w="9360">
                <a:solidFill>
                  <a:srgbClr val="0000ff"/>
                </a:solidFill>
                <a:custDash>
                  <a:ds d="100000" sp="1000"/>
                </a:custDash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4000" y="3789360"/>
            <a:ext cx="26654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АЛЕКТИЗ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987640" y="4365720"/>
            <a:ext cx="381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ФЕССИОНАЛИЗ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659640" y="5084640"/>
            <a:ext cx="226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РГОНИЗМ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АРГОТИЗМЫ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805360"/>
            <a:ext cx="144360" cy="400320"/>
          </a:xfrm>
          <a:prstGeom prst="downArrow">
            <a:avLst>
              <a:gd name="adj1" fmla="val 50000"/>
              <a:gd name="adj2" fmla="val 6932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6021360"/>
            <a:ext cx="144360" cy="399960"/>
          </a:xfrm>
          <a:prstGeom prst="downArrow">
            <a:avLst>
              <a:gd name="adj1" fmla="val 50000"/>
              <a:gd name="adj2" fmla="val 6926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«Нам дан во владение самый богатый, меткий, могучий и поистине волшебный русский язык.»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                                     К. Паустов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«Язык наш беспределен и может живой как жизнь, обогащаться ежеминутно.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                      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Н.Гогол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«Русский язык неисчерпаемо богат и все обогащается с быстротой поражающей.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                          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М. Горь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«Язык наш выразителен не только для высокого красноречия, для громкой поэзии, но и для нежной простоты, для звуков сердца и чувствительности.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                         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Н. Карамз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36000" y="1268280"/>
            <a:ext cx="215640" cy="1440000"/>
          </a:xfrm>
          <a:prstGeom prst="downArrow">
            <a:avLst>
              <a:gd name="adj1" fmla="val 50000"/>
              <a:gd name="adj2" fmla="val 16694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1197000"/>
            <a:ext cx="215640" cy="1368360"/>
          </a:xfrm>
          <a:prstGeom prst="downArrow">
            <a:avLst>
              <a:gd name="adj1" fmla="val 50000"/>
              <a:gd name="adj2" fmla="val 15863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4437000"/>
            <a:ext cx="144720" cy="399960"/>
          </a:xfrm>
          <a:prstGeom prst="downArrow">
            <a:avLst>
              <a:gd name="adj1" fmla="val 50000"/>
              <a:gd name="adj2" fmla="val 6909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125360"/>
            <a:ext cx="216000" cy="3167280"/>
          </a:xfrm>
          <a:prstGeom prst="downArrow">
            <a:avLst>
              <a:gd name="adj1" fmla="val 50000"/>
              <a:gd name="adj2" fmla="val 36658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1197000"/>
            <a:ext cx="216000" cy="3095640"/>
          </a:xfrm>
          <a:prstGeom prst="downArrow">
            <a:avLst>
              <a:gd name="adj1" fmla="val 50000"/>
              <a:gd name="adj2" fmla="val 35829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565360"/>
            <a:ext cx="3381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онно русска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508720" y="2637000"/>
            <a:ext cx="336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имствованна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6360" y="4221000"/>
            <a:ext cx="2943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тивная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76720" y="4221000"/>
            <a:ext cx="215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ссивная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4797360"/>
            <a:ext cx="878040" cy="1916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98520 h 1916280"/>
              <a:gd name="textAreaBottom" fmla="*/ 1326240 h 191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86" stAng="-5400000" swAng="5400000"/>
                <a:lnTo>
                  <a:pt x="21600" y="10454"/>
                </a:lnTo>
                <a:arcTo wR="21600" hR="8986" stAng="0" swAng="2978427"/>
                <a:lnTo>
                  <a:pt x="7200" y="21086"/>
                </a:lnTo>
                <a:lnTo>
                  <a:pt x="0" y="18706"/>
                </a:lnTo>
                <a:lnTo>
                  <a:pt x="7200" y="15298"/>
                </a:lnTo>
                <a:lnTo>
                  <a:pt x="7200" y="17458"/>
                </a:lnTo>
                <a:arcTo wR="21600" hR="8986" stAng="2978427" swAng="-2861261"/>
                <a:lnTo>
                  <a:pt x="21528" y="9720"/>
                </a:lnTo>
                <a:arcTo wR="21600" hR="8986" stAng="-117166" swAng="-5282834"/>
                <a:close/>
              </a:path>
              <a:path fill="darkenLess" w="21600" h="21600">
                <a:moveTo>
                  <a:pt x="0" y="0"/>
                </a:moveTo>
                <a:arcTo wR="21600" hR="8986" stAng="-5400000" swAng="5400000"/>
                <a:lnTo>
                  <a:pt x="21600" y="10454"/>
                </a:lnTo>
                <a:arcTo wR="21600" hR="8986" stAng="0" swAng="-117166"/>
                <a:lnTo>
                  <a:pt x="21528" y="9720"/>
                </a:lnTo>
                <a:arcTo wR="21600" hR="8986" stAng="-117166" swAng="-5282834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4797360"/>
            <a:ext cx="720720" cy="1871640"/>
          </a:xfrm>
          <a:custGeom>
            <a:avLst/>
            <a:gdLst>
              <a:gd name="textAreaLeft" fmla="*/ 96480 w 720720"/>
              <a:gd name="textAreaRight" fmla="*/ 624240 w 720720"/>
              <a:gd name="textAreaTop" fmla="*/ 382680 h 1871640"/>
              <a:gd name="textAreaBottom" fmla="*/ 130176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36" stAng="-5400000" swAng="-5400000"/>
                <a:lnTo>
                  <a:pt x="0" y="10605"/>
                </a:lnTo>
                <a:arcTo wR="21600" hR="8836" stAng="10800000" swAng="-2949737"/>
                <a:lnTo>
                  <a:pt x="14400" y="21095"/>
                </a:lnTo>
                <a:lnTo>
                  <a:pt x="21600" y="18556"/>
                </a:lnTo>
                <a:lnTo>
                  <a:pt x="14400" y="15006"/>
                </a:lnTo>
                <a:lnTo>
                  <a:pt x="14400" y="17166"/>
                </a:lnTo>
                <a:arcTo wR="21600" hR="8836" stAng="7850263" swAng="2808334"/>
                <a:lnTo>
                  <a:pt x="109" y="9720"/>
                </a:lnTo>
                <a:arcTo wR="21600" hR="8836" stAng="-10658597" swAng="5258597"/>
                <a:close/>
              </a:path>
              <a:path fill="darkenLess" w="21600" h="21600">
                <a:moveTo>
                  <a:pt x="21600" y="0"/>
                </a:moveTo>
                <a:arcTo wR="21600" hR="8836" stAng="-5400000" swAng="-5400000"/>
                <a:lnTo>
                  <a:pt x="0" y="8836"/>
                </a:lnTo>
                <a:arcTo wR="21600" hR="8836" stAng="10800000" swAng="-141403"/>
                <a:lnTo>
                  <a:pt x="109" y="9720"/>
                </a:lnTo>
                <a:arcTo wR="21600" hR="8836" stAng="-10658597" swAng="5258597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6021360"/>
            <a:ext cx="4352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таревшие слов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093080" y="5950080"/>
            <a:ext cx="1800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вые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87640" y="1052640"/>
            <a:ext cx="142920" cy="1584360"/>
          </a:xfrm>
          <a:prstGeom prst="downArrow">
            <a:avLst>
              <a:gd name="adj1" fmla="val 50000"/>
              <a:gd name="adj2" fmla="val 27714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1125360"/>
            <a:ext cx="144360" cy="935280"/>
          </a:xfrm>
          <a:prstGeom prst="downArrow">
            <a:avLst>
              <a:gd name="adj1" fmla="val 50000"/>
              <a:gd name="adj2" fmla="val 1619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3640" y="2133720"/>
            <a:ext cx="374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ологизм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26920" y="4292640"/>
            <a:ext cx="27259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хаизм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11640" y="429264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зм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3500280"/>
            <a:ext cx="144720" cy="792360"/>
          </a:xfrm>
          <a:prstGeom prst="downArrow">
            <a:avLst>
              <a:gd name="adj1" fmla="val 50000"/>
              <a:gd name="adj2" fmla="val 13687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3429000"/>
            <a:ext cx="144360" cy="863640"/>
          </a:xfrm>
          <a:prstGeom prst="downArrow">
            <a:avLst>
              <a:gd name="adj1" fmla="val 50000"/>
              <a:gd name="adj2" fmla="val 14956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0920" y="189000"/>
            <a:ext cx="842472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ГАТСТВО РУССКОГО ЯЗЫ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77336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700280"/>
            <a:ext cx="142920" cy="1584360"/>
          </a:xfrm>
          <a:prstGeom prst="downArrow">
            <a:avLst>
              <a:gd name="adj1" fmla="val 50000"/>
              <a:gd name="adj2" fmla="val 27714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1628640"/>
            <a:ext cx="144360" cy="1008360"/>
          </a:xfrm>
          <a:prstGeom prst="downArrow">
            <a:avLst>
              <a:gd name="adj1" fmla="val 50000"/>
              <a:gd name="adj2" fmla="val 17462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84720" y="2637000"/>
            <a:ext cx="221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ОНИ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2565360"/>
            <a:ext cx="215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ОНИ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79640" y="3213000"/>
            <a:ext cx="453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МОНИ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3789360"/>
            <a:ext cx="216000" cy="574560"/>
          </a:xfrm>
          <a:prstGeom prst="downArrow">
            <a:avLst>
              <a:gd name="adj1" fmla="val 50000"/>
              <a:gd name="adj2" fmla="val 66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716280"/>
            <a:ext cx="216000" cy="574560"/>
          </a:xfrm>
          <a:prstGeom prst="downArrow">
            <a:avLst>
              <a:gd name="adj1" fmla="val 50000"/>
              <a:gd name="adj2" fmla="val 66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3789360"/>
            <a:ext cx="217440" cy="574560"/>
          </a:xfrm>
          <a:prstGeom prst="downArrow">
            <a:avLst>
              <a:gd name="adj1" fmla="val 50000"/>
              <a:gd name="adj2" fmla="val 6606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5300640"/>
            <a:ext cx="25923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МУКОЙ</a:t>
            </a:r>
            <a:br>
              <a:rPr sz="2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МУК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32000" y="4723920"/>
            <a:ext cx="288000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Verdana"/>
              </a:rPr>
              <a:t>ПО КАЛАЧУ – ПОКАЛАЧ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Verdana"/>
              </a:rPr>
              <a:t>ВПАСТЬ - В ПАСТ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156000" y="4723920"/>
            <a:ext cx="29876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НЕ ЖАЛЕЯ МЫЛА –ТЕРПЕЛИВО МЫ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4365720"/>
            <a:ext cx="259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МОГРАФ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03640" y="4292640"/>
            <a:ext cx="273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МОФОН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27640" y="4292640"/>
            <a:ext cx="27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МОФОРМЫ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4797360"/>
            <a:ext cx="73080" cy="544680"/>
          </a:xfrm>
          <a:prstGeom prst="downArrow">
            <a:avLst>
              <a:gd name="adj1" fmla="val 50000"/>
              <a:gd name="adj2" fmla="val 18633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18560" y="580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4000" y="189000"/>
            <a:ext cx="496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звитие ре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16360" y="1052640"/>
            <a:ext cx="5796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чинение -рассужд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тему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920" y="2492280"/>
            <a:ext cx="8424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Как вы относитесь к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потреблению жаргонизмов в речи: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ерстников? 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радио и телевидении?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художественной литературе?"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8:32:44Z</dcterms:created>
  <dc:creator>INNA</dc:creator>
  <dc:description/>
  <dc:language>en-US</dc:language>
  <cp:lastModifiedBy>BLACKGIRL</cp:lastModifiedBy>
  <dcterms:modified xsi:type="dcterms:W3CDTF">2010-01-29T23:14:02Z</dcterms:modified>
  <cp:revision>3</cp:revision>
  <dc:subject/>
  <dc:title>Слайд 1</dc:title>
</cp:coreProperties>
</file>